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4B283-4D46-4728-A7C2-56637D035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43C1F-E512-429E-9A82-7DB5B18AC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4C11E-E290-4F8F-B7B3-433B2AE9F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B4919-2D8E-4076-8CD2-EC52DC440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EA991-CF7E-470F-A63A-BF53301CC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9E5D8-8EE8-40E6-A39D-FC2CF5BA6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58736-5BCF-4E7F-9E06-6FAB3F66D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E625-2DA5-4C7B-B2D6-741BE06C3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90C0F-298E-4983-9E37-B6DEE8D97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8FE69-5C52-46EA-9ECF-6A562D286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64744-CBFD-4DD5-B771-F29363DB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013D-0E1A-4CA5-BB38-5D49FAB4B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ECDF-0F0D-4810-9783-CC02D185C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1A56-A4EA-4D32-B0F7-747F10094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78F08-3277-4D2B-BD55-D9CFE1647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A2ECB-AB97-4F64-9E00-3C5B6C8A7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E4B2C-74E0-4DD6-B4D8-5BB993C72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E5032-F9DE-4FE1-BDE2-7CB21A428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27195-681B-4ABE-94F4-5FF9A4F44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CC659-96FE-4665-99D4-5BFA7F362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E999F-429C-40C3-BA06-785868790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D5A34-927C-4385-A1A4-F1DEEE2CB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2F9C9-78FD-4181-816A-7B7D0B39B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C9C1D-E824-4CD2-9D8C-F74D48187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C4DEF-0DAB-44E2-8629-6A59F3E01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67AAF-54EA-4CD4-A81F-928AC4DB9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D87D4-5FC7-485F-B739-7C07024DD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DF8C4-DB48-4441-9837-C25781E2A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ECB32-72A6-4443-8834-4F2BB2BADC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A9A94C-682D-424C-B4AD-AEA9707AD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17A65-706B-49E1-8139-1DB64D498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69271-1297-41A7-88B4-A174C79C0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3A619-9071-4100-B5C2-E9C5D6ED4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4CC5F-DA21-4E92-AD8D-F7633C1E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9B906-1F75-4B75-9FCD-2225A69FF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F8B60-24AD-46A0-9F94-1B8C3A44C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B83AB-5CC1-46E2-BF03-7FCECC27E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A7472-7288-497E-A5EF-089C35BC1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3122D-6701-44DC-ACE1-91E2B7791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EF30D-4EB4-4B55-AF7E-F1C0E4A1D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FB5C2-6C12-4AC5-B1B4-85964AB6B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763862-C6E1-43C5-8F77-2ED49A079B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FA246C-34D4-4D81-8D67-E38B7910B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CFDEFA-16CB-4E57-BE44-964412BF2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6AAC-2B6E-4189-8C88-E1B60CCB3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98A51-0725-4968-9BD8-74E361D50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BC06A-5565-4A60-98B9-5EDC3C512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C5A56-B44F-4991-8720-56B47C79B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3AE20-9773-456B-B229-09932F270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3D65C-A965-4AE3-B73F-1C374EF37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DE434-C811-40C2-BFA2-07A294B97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AC123-748A-43B1-B81D-2699CB57B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31E34-3DF9-492F-A261-401D7F13E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92D4B-B0E6-48FE-8B9C-B0E4FD70E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021A36-96EE-4DC4-8038-F26B7B67E2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E1D4E-F16D-4D3F-95C5-305B200C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8E8BFC-08FC-40D3-9A47-40B7E769AC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28F0-4957-4437-A705-753442541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9EA1-8C90-4E1D-98A7-F09B835CB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186B9-1C6F-44C2-AC2C-F42A000E8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5c201"/>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526db0">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16C-B7AA-4390-9B0C-45BC0F7F342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5c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526db0">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61AA-3150-4DAB-9220-8B7416D341F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5c201"/>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526d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BCDC-1752-43E9-B509-590AB1C95A5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5c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526d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d1282e"/>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1282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3818-29D3-4206-9A47-3D89EADD5E6E}" type="slidenum">
              <a:rPr b="0" lang="en-US" sz="1600" spc="-1" strike="noStrike">
                <a:solidFill>
                  <a:srgbClr val="d1282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5c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526db0">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5c20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98EB-DB35-4C84-A550-80301589DB7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97920" y="104544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DO NOW! </a:t>
            </a:r>
            <a:endParaRPr b="0" lang="en-US" sz="4400" spc="-1" strike="noStrike">
              <a:solidFill>
                <a:srgbClr val="000000"/>
              </a:solidFill>
              <a:latin typeface="Franklin Gothic Medium"/>
            </a:endParaRPr>
          </a:p>
        </p:txBody>
      </p:sp>
      <p:sp>
        <p:nvSpPr>
          <p:cNvPr id="216" name="PlaceHolder 2"/>
          <p:cNvSpPr>
            <a:spLocks noGrp="1"/>
          </p:cNvSpPr>
          <p:nvPr>
            <p:ph type="subTitle"/>
          </p:nvPr>
        </p:nvSpPr>
        <p:spPr>
          <a:xfrm rot="19140000">
            <a:off x="810720" y="1668600"/>
            <a:ext cx="6510600" cy="1295280"/>
          </a:xfrm>
          <a:prstGeom prst="rect">
            <a:avLst/>
          </a:prstGeom>
          <a:noFill/>
          <a:ln w="0">
            <a:noFill/>
          </a:ln>
        </p:spPr>
        <p:txBody>
          <a:bodyPr tIns="9000" anchor="t">
            <a:no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ea typeface="Tunga"/>
              </a:rPr>
              <a:t>IN YOUR RED FOLDERS FIND YOUR LOG WORKSHEET AND FILL IN THE BOXES FOR THE PARTS YOU WORKED ON LAST LESSON</a:t>
            </a:r>
            <a:endParaRPr b="1" lang="en-US" sz="2000" spc="-1" strike="noStrike">
              <a:solidFill>
                <a:srgbClr val="000000"/>
              </a:solidFill>
              <a:latin typeface="Franklin Gothic Book"/>
            </a:endParaRPr>
          </a:p>
        </p:txBody>
      </p:sp>
      <p:pic>
        <p:nvPicPr>
          <p:cNvPr id="217" name="Picture 5" descr="C:\Documents and Settings\sc-randall\Local Settings\Temporary Internet Files\Content.IE5\Q59YDQIX\MC900237453[1].wmf"/>
          <p:cNvPicPr/>
          <p:nvPr/>
        </p:nvPicPr>
        <p:blipFill>
          <a:blip r:embed="rId1"/>
          <a:stretch/>
        </p:blipFill>
        <p:spPr>
          <a:xfrm>
            <a:off x="4559400" y="2855880"/>
            <a:ext cx="332568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35" name=""/>
          <p:cNvSpPr txBox="1"/>
          <p:nvPr/>
        </p:nvSpPr>
        <p:spPr>
          <a:xfrm>
            <a:off x="179280" y="1052640"/>
            <a:ext cx="8785440" cy="5472000"/>
          </a:xfrm>
          <a:prstGeom prst="rect">
            <a:avLst/>
          </a:prstGeom>
          <a:solidFill>
            <a:srgbClr val="ffffff"/>
          </a:solidFill>
          <a:ln w="9360">
            <a:solidFill>
              <a:srgbClr val="3d5185"/>
            </a:solidFill>
            <a:miter/>
          </a:ln>
        </p:spPr>
        <p:txBody>
          <a:bodyPr anchor="t">
            <a:normAutofit fontScale="98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10 – </a:t>
            </a:r>
            <a:r>
              <a:rPr b="0" lang="en-GB" sz="2200" spc="-1" strike="noStrike">
                <a:solidFill>
                  <a:srgbClr val="000000"/>
                </a:solidFill>
                <a:latin typeface="Franklin Gothic Book"/>
              </a:rPr>
              <a:t>Structure your trance track into sections. Have a clear intro and make sure each section develops into the next. Make sure you have an ending that makes your piece sound final. You whole track should be at least 2 minutes long but not longer than 4 minutes.</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Franklin Gothic Book"/>
              </a:rPr>
              <a:t>Intro</a:t>
            </a:r>
            <a:r>
              <a:rPr b="0" lang="en-GB" sz="2200" spc="-1" strike="noStrike">
                <a:solidFill>
                  <a:srgbClr val="000000"/>
                </a:solidFill>
                <a:latin typeface="Franklin Gothic Book"/>
              </a:rPr>
              <a:t> - Your programmed drum beat, chords and bassline. You might also have ambient noise.</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Franklin Gothic Book"/>
              </a:rPr>
              <a:t>Breakdown</a:t>
            </a:r>
            <a:r>
              <a:rPr b="0" lang="en-GB" sz="2200" spc="-1" strike="noStrike">
                <a:solidFill>
                  <a:srgbClr val="000000"/>
                </a:solidFill>
                <a:latin typeface="Franklin Gothic Book"/>
              </a:rPr>
              <a:t> - Your drum beat stops and your chords and bassline continue. The drum beat will then build up into a release.</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Franklin Gothic Book"/>
              </a:rPr>
              <a:t>Release</a:t>
            </a:r>
            <a:r>
              <a:rPr b="0" lang="en-GB" sz="2200" spc="-1" strike="noStrike">
                <a:solidFill>
                  <a:srgbClr val="000000"/>
                </a:solidFill>
                <a:latin typeface="Franklin Gothic Book"/>
              </a:rPr>
              <a:t> - Your drum beat or drum samples  drop in. Your chords and bassline continue. You also start adding a riffs hook, arpeggiated patterns  and repetitive vocal samples.</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Franklin Gothic Book"/>
              </a:rPr>
              <a:t>Outro</a:t>
            </a:r>
            <a:r>
              <a:rPr b="0" lang="en-GB" sz="2200" spc="-1" strike="noStrike">
                <a:solidFill>
                  <a:srgbClr val="000000"/>
                </a:solidFill>
                <a:latin typeface="Franklin Gothic Book"/>
              </a:rPr>
              <a:t> - So you use your drum beat, chords and bassline from the intro with hints of the hook and arpeggiated patterns. Add cymbal crashes. You may also have ambient noise. The instruments drop out one at a time to leave the drum beat to fade.</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 LOG</a:t>
            </a:r>
            <a:endParaRPr b="0" lang="en-US" sz="2800" spc="-1" strike="noStrike">
              <a:solidFill>
                <a:srgbClr val="000000"/>
              </a:solidFill>
              <a:latin typeface="Franklin Gothic Medium"/>
            </a:endParaRPr>
          </a:p>
        </p:txBody>
      </p:sp>
      <p:sp>
        <p:nvSpPr>
          <p:cNvPr id="237" name=""/>
          <p:cNvSpPr txBox="1"/>
          <p:nvPr/>
        </p:nvSpPr>
        <p:spPr>
          <a:xfrm>
            <a:off x="610920" y="1052280"/>
            <a:ext cx="7848360" cy="309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Complete the Log worksheet filling in the boxes for tasks you completed today, how you have used music technology and any additional info like what instrument you used, sound effects etc. </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59920"/>
            <a:ext cx="6048360" cy="1800360"/>
          </a:xfrm>
          <a:prstGeom prst="rect">
            <a:avLst/>
          </a:prstGeom>
          <a:noFill/>
          <a:ln w="0">
            <a:noFill/>
          </a:ln>
        </p:spPr>
        <p:txBody>
          <a:bodyPr bIns="9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4:</a:t>
            </a:r>
            <a:br>
              <a:rPr sz="3600"/>
            </a:br>
            <a:r>
              <a:rPr b="0" lang="en-GB" sz="3600" spc="-1" strike="noStrike">
                <a:solidFill>
                  <a:srgbClr val="000000"/>
                </a:solidFill>
                <a:latin typeface="Franklin Gothic Medium"/>
              </a:rPr>
              <a:t>STRUCTURE OF YOUR TRANCE TRACK</a:t>
            </a:r>
            <a:endParaRPr b="0" lang="en-US" sz="3600" spc="-1" strike="noStrike">
              <a:solidFill>
                <a:srgbClr val="000000"/>
              </a:solidFill>
              <a:latin typeface="Franklin Gothic Medium"/>
            </a:endParaRPr>
          </a:p>
        </p:txBody>
      </p:sp>
      <p:sp>
        <p:nvSpPr>
          <p:cNvPr id="219" name="TextBox 1"/>
          <p:cNvSpPr/>
          <p:nvPr/>
        </p:nvSpPr>
        <p:spPr>
          <a:xfrm>
            <a:off x="4356000" y="2924280"/>
            <a:ext cx="475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on Objec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explore trance music structure to make your piece interes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continue to extend your trance track by adding your drumbeat, chords, bass lines, arpeggiated patterns, riffs and hooks, ambient noises and repetitive voc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HOW IS TRANCE MUSIC STRUCTURED?</a:t>
            </a:r>
            <a:endParaRPr b="0" lang="en-US" sz="2800" spc="-1" strike="noStrike">
              <a:solidFill>
                <a:srgbClr val="000000"/>
              </a:solidFill>
              <a:latin typeface="Franklin Gothic Medium"/>
            </a:endParaRPr>
          </a:p>
        </p:txBody>
      </p:sp>
      <p:sp>
        <p:nvSpPr>
          <p:cNvPr id="221" name=""/>
          <p:cNvSpPr txBox="1"/>
          <p:nvPr/>
        </p:nvSpPr>
        <p:spPr>
          <a:xfrm>
            <a:off x="324000" y="1413000"/>
            <a:ext cx="8686800" cy="3744720"/>
          </a:xfrm>
          <a:prstGeom prst="rect">
            <a:avLst/>
          </a:prstGeom>
          <a:noFill/>
          <a:ln w="0">
            <a:noFill/>
          </a:ln>
        </p:spPr>
        <p:txBody>
          <a:bodyPr anchor="t">
            <a:normAutofit/>
          </a:bodyPr>
          <a:p>
            <a:pPr lvl="1" marL="173160" indent="-173160">
              <a:spcBef>
                <a:spcPts val="300"/>
              </a:spcBef>
              <a:buClr>
                <a:srgbClr val="f5c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Intro</a:t>
            </a:r>
            <a:endParaRPr b="0" lang="en-US" sz="3200" spc="-1" strike="noStrike">
              <a:solidFill>
                <a:srgbClr val="000000"/>
              </a:solidFill>
              <a:latin typeface="Franklin Gothic Book"/>
            </a:endParaRPr>
          </a:p>
          <a:p>
            <a:pPr lvl="1" marL="173160" indent="-173160">
              <a:spcBef>
                <a:spcPts val="300"/>
              </a:spcBef>
              <a:buClr>
                <a:srgbClr val="f5c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reakdown</a:t>
            </a:r>
            <a:endParaRPr b="0" lang="en-US" sz="3200" spc="-1" strike="noStrike">
              <a:solidFill>
                <a:srgbClr val="000000"/>
              </a:solidFill>
              <a:latin typeface="Franklin Gothic Book"/>
            </a:endParaRPr>
          </a:p>
          <a:p>
            <a:pPr lvl="1" marL="173160" indent="-173160">
              <a:spcBef>
                <a:spcPts val="300"/>
              </a:spcBef>
              <a:buClr>
                <a:srgbClr val="f5c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Release</a:t>
            </a:r>
            <a:endParaRPr b="0" lang="en-US" sz="3200" spc="-1" strike="noStrike">
              <a:solidFill>
                <a:srgbClr val="000000"/>
              </a:solidFill>
              <a:latin typeface="Franklin Gothic Book"/>
            </a:endParaRPr>
          </a:p>
          <a:p>
            <a:pPr lvl="1" marL="173160" indent="-173160">
              <a:spcBef>
                <a:spcPts val="300"/>
              </a:spcBef>
              <a:buClr>
                <a:srgbClr val="f5c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Outro</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TRO</a:t>
            </a:r>
            <a:endParaRPr b="0" lang="en-US" sz="2800" spc="-1" strike="noStrike">
              <a:solidFill>
                <a:srgbClr val="000000"/>
              </a:solidFill>
              <a:latin typeface="Franklin Gothic Medium"/>
            </a:endParaRPr>
          </a:p>
        </p:txBody>
      </p:sp>
      <p:sp>
        <p:nvSpPr>
          <p:cNvPr id="223" name=""/>
          <p:cNvSpPr txBox="1"/>
          <p:nvPr/>
        </p:nvSpPr>
        <p:spPr>
          <a:xfrm>
            <a:off x="0" y="907920"/>
            <a:ext cx="9010800" cy="410544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	</a:t>
            </a:r>
            <a:r>
              <a:rPr b="0" lang="en-GB" sz="2000" spc="-1" strike="noStrike">
                <a:solidFill>
                  <a:srgbClr val="000000"/>
                </a:solidFill>
                <a:latin typeface="Franklin Gothic Book"/>
              </a:rPr>
              <a:t>The intro is the first part of the song you hear. It gives the DJ time to mix out of the song he was previously playing and into the one he wants to play next. For the most part, it will have a fairly well defined beat, but usually there is not much going on melodically. You may have some chords or harmonies in place to set the mood, but too much in the terms of melody and chord changes increases the chance that what the DJ is mixing out of will clash with what he is mixing into. First impressions are important, and a strong intro that is both driving and unique are important to keep a listener hooked throughout the song. </a:t>
            </a:r>
            <a:endParaRPr b="1" lang="en-US" sz="2000" spc="-1" strike="noStrike">
              <a:solidFill>
                <a:srgbClr val="00000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d1e23"/>
                </a:solidFill>
                <a:latin typeface="Franklin Gothic Book"/>
              </a:rPr>
              <a:t>	</a:t>
            </a:r>
            <a:r>
              <a:rPr b="1" lang="en-GB" sz="2400" spc="-1" strike="noStrike">
                <a:solidFill>
                  <a:srgbClr val="9d1e23"/>
                </a:solidFill>
                <a:latin typeface="Franklin Gothic Book"/>
              </a:rPr>
              <a:t>So your programmed drum beat, chords and bassline. You might also have ambient noise.</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BREAKDOWN</a:t>
            </a:r>
            <a:endParaRPr b="0" lang="en-US" sz="2800" spc="-1" strike="noStrike">
              <a:solidFill>
                <a:srgbClr val="000000"/>
              </a:solidFill>
              <a:latin typeface="Franklin Gothic Medium"/>
            </a:endParaRPr>
          </a:p>
        </p:txBody>
      </p:sp>
      <p:sp>
        <p:nvSpPr>
          <p:cNvPr id="225" name=""/>
          <p:cNvSpPr txBox="1"/>
          <p:nvPr/>
        </p:nvSpPr>
        <p:spPr>
          <a:xfrm>
            <a:off x="0" y="907560"/>
            <a:ext cx="9010800" cy="374508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Following the intro, after the DJ has had time to mix fully into your song, there is usually some sort of breakdown or break. The percussion and other elements drop sharply and with intensity. This is used to create anticipation as well as tension. In aiming to please crowds, you should aim to make the intensity of the song at a level that induces dancing, but that has more to do with your style of production. </a:t>
            </a:r>
            <a:endParaRPr b="1" lang="en-US" sz="1800" spc="-1" strike="noStrike">
              <a:solidFill>
                <a:srgbClr val="00000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Creating tension in the breakdown is a balance act. The more of a contrast you can build throughout the break, the more tension you will also create in anticipation of the release. However, if you build your break too quickly, it will feel rushed and the release will occur too soon. If you build too slowly the listener looses interest. </a:t>
            </a:r>
            <a:br>
              <a:rPr sz="1800"/>
            </a:br>
            <a:endParaRPr b="1" lang="en-US" sz="1800" spc="-1" strike="noStrike">
              <a:solidFill>
                <a:srgbClr val="000000"/>
              </a:solidFill>
              <a:latin typeface="Franklin Gothic Book"/>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e23"/>
                </a:solidFill>
                <a:latin typeface="Franklin Gothic Book"/>
              </a:rPr>
              <a:t>	</a:t>
            </a:r>
            <a:r>
              <a:rPr b="1" lang="en-GB" sz="2400" spc="-1" strike="noStrike">
                <a:solidFill>
                  <a:srgbClr val="9d1e23"/>
                </a:solidFill>
                <a:latin typeface="Franklin Gothic Book"/>
              </a:rPr>
              <a:t>So your drum beat stops and your chords and bassline continue. The drum beat will then build up into a release.</a:t>
            </a:r>
            <a:endParaRPr b="1" lang="en-US" sz="2400" spc="-1" strike="noStrike">
              <a:solidFill>
                <a:srgbClr val="00000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ELEASE</a:t>
            </a:r>
            <a:endParaRPr b="0" lang="en-US" sz="2800" spc="-1" strike="noStrike">
              <a:solidFill>
                <a:srgbClr val="000000"/>
              </a:solidFill>
              <a:latin typeface="Franklin Gothic Medium"/>
            </a:endParaRPr>
          </a:p>
        </p:txBody>
      </p:sp>
      <p:sp>
        <p:nvSpPr>
          <p:cNvPr id="227" name=""/>
          <p:cNvSpPr txBox="1"/>
          <p:nvPr/>
        </p:nvSpPr>
        <p:spPr>
          <a:xfrm>
            <a:off x="0" y="907920"/>
            <a:ext cx="9010800" cy="4105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	</a:t>
            </a:r>
            <a:r>
              <a:rPr b="0" lang="en-GB" sz="1600" spc="-1" strike="noStrike">
                <a:solidFill>
                  <a:srgbClr val="000000"/>
                </a:solidFill>
                <a:latin typeface="Franklin Gothic Book"/>
              </a:rPr>
              <a:t>The release is the part of the track that people will probably remember the most. It is also the part that DJs look to in order to get the crowd going crazy. It has the highest amount of energy and is in direct contrast to the beginning of the break. It will have the hook line, as well as the incorporation of elements found in the intro and breakdown.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	</a:t>
            </a:r>
            <a:r>
              <a:rPr b="0" lang="en-GB" sz="1600" spc="-1" strike="noStrike">
                <a:solidFill>
                  <a:srgbClr val="000000"/>
                </a:solidFill>
                <a:latin typeface="Franklin Gothic Book"/>
              </a:rPr>
              <a:t>Creating a release that does not disappoint is a challenge. It is possible to create intensity by piling layers of percussion, bass lines, and melodic elements into the release. But, this tends to make it sound muddy and hard to listen to. It is also possible to go the other direction and not have enough elements occurring during the release to create the kind of energy trance is known for. When you do this, the listener is left feeling that the buildup of the break section led to a level of intensity not in line with their expectation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9d1e23"/>
                </a:solidFill>
                <a:latin typeface="Franklin Gothic Book"/>
              </a:rPr>
              <a:t>	</a:t>
            </a:r>
            <a:r>
              <a:rPr b="1" lang="en-GB" sz="2200" spc="-1" strike="noStrike">
                <a:solidFill>
                  <a:srgbClr val="9d1e23"/>
                </a:solidFill>
                <a:latin typeface="Franklin Gothic Book"/>
              </a:rPr>
              <a:t>So your drum beat or drum samples  drop in. Your chords and bassline continue. You also start adding a riffs hook, arpeggiated patterns  and repetitive vocal samples.</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OUTRO</a:t>
            </a:r>
            <a:endParaRPr b="0" lang="en-US" sz="2800" spc="-1" strike="noStrike">
              <a:solidFill>
                <a:srgbClr val="000000"/>
              </a:solidFill>
              <a:latin typeface="Franklin Gothic Medium"/>
            </a:endParaRPr>
          </a:p>
        </p:txBody>
      </p:sp>
      <p:sp>
        <p:nvSpPr>
          <p:cNvPr id="229" name=""/>
          <p:cNvSpPr txBox="1"/>
          <p:nvPr/>
        </p:nvSpPr>
        <p:spPr>
          <a:xfrm>
            <a:off x="108000" y="907560"/>
            <a:ext cx="8902800" cy="374508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	</a:t>
            </a:r>
            <a:r>
              <a:rPr b="0" lang="en-GB" sz="1600" spc="-1" strike="noStrike">
                <a:solidFill>
                  <a:srgbClr val="000000"/>
                </a:solidFill>
                <a:latin typeface="Franklin Gothic Book"/>
              </a:rPr>
              <a:t>The outro exists primarily as a tool for DJ mixing. After the release has fulfilled its role, it will fall to a level fairly consistent with that of the intro. Remnants of the melody may still be in place, as well as parts of the bass line and usually scaled down versions of the percussion. The elements of the track will gradually taper out, usually leaving only percussion until that too fades out. As a help to DJs, the outro will have occasional builds, cymbal crashes, or sweeps in order to give places in which the DJ can fully cut out from the track. As a last resort for the DJ, the very end of the track also generally contains one final build or splash of some sort to give the track a last means of smooth exit. </a:t>
            </a:r>
            <a:endParaRPr b="1" lang="en-US" sz="1600" spc="-1" strike="noStrike">
              <a:solidFill>
                <a:srgbClr val="000000"/>
              </a:solidFill>
              <a:latin typeface="Franklin Gothic Book"/>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d1e23"/>
                </a:solidFill>
                <a:latin typeface="Franklin Gothic Book"/>
              </a:rPr>
              <a:t>	</a:t>
            </a:r>
            <a:r>
              <a:rPr b="1" lang="en-GB" sz="2400" spc="-1" strike="noStrike">
                <a:solidFill>
                  <a:srgbClr val="9d1e23"/>
                </a:solidFill>
                <a:latin typeface="Franklin Gothic Book"/>
              </a:rPr>
              <a:t>So you use your drum beat, chords and bassline from the intro with hints of the hook and arpeggiated patterns. Add cymbal crashes .You may also have ambient noise. The instruments drop out one at a time to leave the drum beat to fade.</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31" name=""/>
          <p:cNvSpPr txBox="1"/>
          <p:nvPr/>
        </p:nvSpPr>
        <p:spPr>
          <a:xfrm>
            <a:off x="179280" y="907560"/>
            <a:ext cx="8785440" cy="5805720"/>
          </a:xfrm>
          <a:prstGeom prst="rect">
            <a:avLst/>
          </a:prstGeom>
          <a:solidFill>
            <a:srgbClr val="ffffff"/>
          </a:solidFill>
          <a:ln w="9360">
            <a:solidFill>
              <a:srgbClr val="3d5185"/>
            </a:solidFill>
            <a:miter/>
          </a:ln>
        </p:spPr>
        <p:txBody>
          <a:bodyPr anchor="t">
            <a:normAutofit fontScale="93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Book"/>
              </a:rPr>
              <a:t>The assessment for this project is a trance composition created using the Roland midi controller and Logic Pro. You will work in pairs and each lesson you will add more parts to your composition by following tasks in ord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1 </a:t>
            </a:r>
            <a:r>
              <a:rPr b="0" lang="en-GB" sz="2200" spc="-1" strike="noStrike">
                <a:solidFill>
                  <a:srgbClr val="000000"/>
                </a:solidFill>
                <a:latin typeface="Franklin Gothic Book"/>
              </a:rPr>
              <a:t>– Use the ‘Programming a Trance drumbeat’ worksheet to input it into Logic using the midi controller. Use a trance drum kit from the Ultrabeat synthesiser. Copy and paste your drumbeat for as long as you want.</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2 </a:t>
            </a:r>
            <a:r>
              <a:rPr b="0" lang="en-GB" sz="2200" spc="-1" strike="noStrike">
                <a:solidFill>
                  <a:srgbClr val="000000"/>
                </a:solidFill>
                <a:latin typeface="Franklin Gothic Book"/>
              </a:rPr>
              <a:t>– Choose two or three chords from the ‘Trance Chords’ worksheet. You must have at least one major and one minor chord. As a pair decide on how often the chords will change, what instrument sound will be used (synth pad or strings) and then input them into Logic using the midi controller. Your chords will play at the same time as the drum beat you have already programmed in. Add reverb and/or delay to your chords if the sound doesn’t already have them.</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3 </a:t>
            </a:r>
            <a:r>
              <a:rPr b="0" lang="en-GB" sz="2200" spc="-1" strike="noStrike">
                <a:solidFill>
                  <a:srgbClr val="000000"/>
                </a:solidFill>
                <a:latin typeface="Franklin Gothic Book"/>
              </a:rPr>
              <a:t>– From the sample bank of 6 different drum sounds/beats (Go to the Shared area W drive, K Music, Trance Sounds) choose two or three and copy them into your area. Give each one a name you will remember. Add these varying rhythms to your chords (the chords repeat over and over). You can drag these samples onto an audio track.</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33" name=""/>
          <p:cNvSpPr txBox="1"/>
          <p:nvPr/>
        </p:nvSpPr>
        <p:spPr>
          <a:xfrm>
            <a:off x="179280" y="1052640"/>
            <a:ext cx="8785440" cy="5472000"/>
          </a:xfrm>
          <a:prstGeom prst="rect">
            <a:avLst/>
          </a:prstGeom>
          <a:solidFill>
            <a:srgbClr val="ffffff"/>
          </a:solidFill>
          <a:ln w="9360">
            <a:solidFill>
              <a:srgbClr val="3d5185"/>
            </a:solidFill>
            <a:miter/>
          </a:ln>
        </p:spPr>
        <p:txBody>
          <a:bodyPr anchor="t">
            <a:normAutofit fontScale="91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4 </a:t>
            </a:r>
            <a:r>
              <a:rPr b="0" lang="en-GB" sz="2200" spc="-1" strike="noStrike">
                <a:solidFill>
                  <a:srgbClr val="000000"/>
                </a:solidFill>
                <a:latin typeface="Franklin Gothic Book"/>
              </a:rPr>
              <a:t>– In your groups discuss the type of Trance track you want to make and go on to YouTube to research and decide on some sounds you have heard in Trance Music that you are going to try and replicate and add to your production. You will have 10 minutes to do thi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5 </a:t>
            </a:r>
            <a:r>
              <a:rPr b="0" lang="en-GB" sz="2200" spc="-1" strike="noStrike">
                <a:solidFill>
                  <a:srgbClr val="000000"/>
                </a:solidFill>
                <a:latin typeface="Franklin Gothic Book"/>
              </a:rPr>
              <a:t>- Add a bass line to your trance track. Use a synth bass sound. Think about the chord you have used; the bass pitches should go with that chord.</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6 </a:t>
            </a:r>
            <a:r>
              <a:rPr b="0" lang="en-GB" sz="2200" spc="-1" strike="noStrike">
                <a:solidFill>
                  <a:srgbClr val="000000"/>
                </a:solidFill>
                <a:latin typeface="Franklin Gothic Book"/>
              </a:rPr>
              <a:t>– Add some arpeggiated patterns. Use the ‘Arpeggiated chords’ worksheet to help you play arpeggios for the chord you have used. Use a synth lead sound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7 </a:t>
            </a:r>
            <a:r>
              <a:rPr b="0" lang="en-GB" sz="2200" spc="-1" strike="noStrike">
                <a:solidFill>
                  <a:srgbClr val="000000"/>
                </a:solidFill>
                <a:latin typeface="Franklin Gothic Book"/>
              </a:rPr>
              <a:t>– Add some riffs and/or hooks using synth lead and bass sound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8 </a:t>
            </a:r>
            <a:r>
              <a:rPr b="0" lang="en-GB" sz="2200" spc="-1" strike="noStrike">
                <a:solidFill>
                  <a:srgbClr val="000000"/>
                </a:solidFill>
                <a:latin typeface="Franklin Gothic Book"/>
              </a:rPr>
              <a:t>– Add some ambient sounds. You can use some of the synth samples found in the Shared area W drive, K Music, Trance Sounds. Before you use them make sure you copy the ones you want into your documents. You should also find some ambient sounds within Logic Pro.</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9 </a:t>
            </a:r>
            <a:r>
              <a:rPr b="0" lang="en-GB" sz="2200" spc="-1" strike="noStrike">
                <a:solidFill>
                  <a:srgbClr val="000000"/>
                </a:solidFill>
                <a:latin typeface="Franklin Gothic Book"/>
              </a:rPr>
              <a:t>– Add some repetitive vocals. You can use some of the vocal samples found in the loop menu or record your own. Arrange a time with your teacher to do this.</a:t>
            </a: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9:08:33Z</dcterms:created>
  <dc:creator>Jonathan Savage</dc:creator>
  <dc:description/>
  <dc:language>en-US</dc:language>
  <cp:lastModifiedBy>Randall C.</cp:lastModifiedBy>
  <dcterms:modified xsi:type="dcterms:W3CDTF">2012-03-14T09:38:31Z</dcterms:modified>
  <cp:revision>54</cp:revision>
  <dc:subject/>
  <dc:title>Trance Music</dc:title>
</cp:coreProperties>
</file>